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BA9-F2A5-4936-A756-00A57C45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6756-39D3-4F33-8A23-A51BF5B8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64B-2D7A-45B6-AB88-27AC2C28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5FC-F1E9-4856-904E-B7B60CF3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0BC5-DE27-4DF0-9966-C7EAFEEF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88B6-4B52-42A6-84D4-EA5A00C8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FCCA-6027-47AD-B018-5E59D2F3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E5C3-D81A-417E-B3B0-7C715F46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AB95-959C-4138-8481-E3263242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DC8E-E722-48D0-8AD9-2FA753BD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2023-0F7B-427C-BAD5-B2BF1D6B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057-BD09-4700-9ED5-4CC84C71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CB33-5FC7-46F4-8DC4-D1126B69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9793-8B66-4D47-BA27-8A749157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8EB2-0BA8-4FB2-8CBA-901699CE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252C-6BA7-45BD-9DA0-A3795E5A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47EC-D014-4D0F-A520-CFBB099A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A008-7084-4C25-BA31-F69CE685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99F-0330-48E9-91D0-246E5448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1D01-CCAB-4579-9869-5BD126A1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767-CEAA-432A-9A57-CEB3A60F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30D-9C1C-43C6-A027-B6347C59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9AF-4820-4898-A7DE-E568FD7B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15A-D85A-41F6-A814-781A77F0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1ED7-C3F9-411F-8218-F4253F04F8F0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817C-F10A-4E00-B83A-A3C5157683F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A2B9-CECD-4736-A75D-F16798C7AF56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A62E-BF51-40D9-AF81-2914E3A0C52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00200" y="14475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TRENINK  ŽACTVA  V  OB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etr We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7919-60A6-429D-ACC2-587E362D26F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A796860-DEEA-451F-9772-47AE46275B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Část I – </a:t>
            </a:r>
            <a:r>
              <a:rPr b="1" lang="cs-CZ" sz="4800" spc="-1" strike="noStrike" u="sng">
                <a:solidFill>
                  <a:srgbClr val="ffffcc"/>
                </a:solidFill>
                <a:uFillTx/>
                <a:latin typeface="Arial Narrow"/>
                <a:ea typeface="Times New Roman"/>
              </a:rPr>
              <a:t>organizační záležitosti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/ Jak žáčky a žákyně do oddílu přiláka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/ V jakém věku děti nabíra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/ V kterém ročním období začí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/ Bude stačit jeden trenér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5/ Čím začí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8EB-3BAB-4963-BF93-6644FD7916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170F1-1F5D-4B62-88E3-5B6256D99946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Část II – </a:t>
            </a:r>
            <a:r>
              <a:rPr b="1" lang="cs-CZ" sz="4800" spc="-1" strike="noStrike" u="sng">
                <a:solidFill>
                  <a:srgbClr val="ffffcc"/>
                </a:solidFill>
                <a:uFillTx/>
                <a:latin typeface="Arial Narrow"/>
                <a:ea typeface="Times New Roman"/>
              </a:rPr>
              <a:t>Jak a co trénovat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Žactvo =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bdobí základní příprav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etapa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portovní předpříprav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/„školka OB“/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7-9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ěhem této etapy by děti měli bez problémů zvládnout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základní mapový klíč pro 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orientaci mapy podle teré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držení palce  na map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určení vlastního stanoviště na map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orientaci mapy podle buz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nebát se v lese  sá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A30B-4EB7-4638-8F59-70236AB54F5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D13CA-9182-4C27-89CB-FA22256E554F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2. Etapa</a:t>
            </a:r>
            <a:r>
              <a:rPr b="1" lang="cs-CZ" sz="4000" spc="-1" strike="noStrike">
                <a:solidFill>
                  <a:srgbClr val="ffffcc"/>
                </a:solidFill>
                <a:latin typeface="Arial Narrow"/>
              </a:rPr>
              <a:t>:</a:t>
            </a:r>
            <a:r>
              <a:rPr b="1" lang="cs-CZ" sz="40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 </a:t>
            </a:r>
            <a:r>
              <a:rPr b="1" lang="cs-CZ" sz="4000" spc="-1" strike="noStrike" u="sng">
                <a:solidFill>
                  <a:srgbClr val="ffffcc"/>
                </a:solidFill>
                <a:uFillTx/>
                <a:latin typeface="Arial Narrow"/>
                <a:ea typeface="Times New Roman"/>
              </a:rPr>
              <a:t>základní  specializovaná příprava 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9-11 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ěhem této etapy by měli postupně zvládnout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čtení mapy za chů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přehazování vyhýbek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již před odbočkou vědět, k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měřítko mapy a jeho význam pro odhad vzdále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zkracování fáborkované tratě podle výrazných lini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určení výrazných záchytných bodů viditelných z li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základní znaky piktogramů na popisech k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70B-BD6B-4BAA-AE6B-2E0578BB77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CB7C6-4DE1-41D1-8455-A850DE1273A8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3. etapa 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: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  </a:t>
            </a:r>
            <a:r>
              <a:rPr b="1" lang="cs-CZ" sz="4800" spc="-1" strike="noStrike" u="sng">
                <a:solidFill>
                  <a:srgbClr val="ffffcc"/>
                </a:solidFill>
                <a:uFillTx/>
                <a:latin typeface="Arial Narrow"/>
                <a:ea typeface="Times New Roman"/>
              </a:rPr>
              <a:t>počáteční specializace</a:t>
            </a:r>
            <a:r>
              <a:rPr b="1" lang="cs-CZ" sz="4800" spc="-1" strike="noStrike" u="sng">
                <a:solidFill>
                  <a:srgbClr val="ffffcc"/>
                </a:solidFill>
                <a:uFillTx/>
                <a:latin typeface="Arial Narrow"/>
              </a:rPr>
              <a:t> </a:t>
            </a:r>
            <a:r>
              <a:rPr b="1" lang="cs-CZ" sz="1800" spc="-1" strike="noStrike">
                <a:solidFill>
                  <a:srgbClr val="ffffcc"/>
                </a:solidFill>
                <a:latin typeface="Arial Narrow"/>
              </a:rPr>
              <a:t>1</a:t>
            </a: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1-14 let</a:t>
            </a: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ytrvalost – zvyšovat zejména počet tréninkových jednotek mírnou intenzit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íla – posilovat všestranně, dynamická cvičení, krátké 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i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nší zátě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ychlost – používat střední a kontrolované rychlosti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upňované úseky,  změny rychlosti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hebnost, pohyblivost – streč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echnika běh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do každého tréninku ABC at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iné sportovní aktivity – kolo, lyže, kolečkové brusle , plaván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CF1-BFB7-4B40-A784-E5D9C08830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E6703-E6C1-4542-96FD-BF9CC6F62AA1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V tomto období již postupně přejít na zvládnutí základních orientačních technik 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sné čtení m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rubé čtení m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rubý azim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sný azimut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dhad vzdálenosti , případně i kroková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493-DD30-406D-81DA-53B56BECEE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45D91-6681-4358-BE3F-A9610CE2FCD9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         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Další kroky  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eprve po zvládnutí jednotlivých dovedností  je možno je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stupně procvičovat společn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Účast na závodech musí být pouze jednou ze součástí příprav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ílem je co nejvíce se naučit, nikoliv výsledek 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 kategorie 13-14 letých zač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í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již s evidencí tréninku  i pravidelným testování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e vhodné využít i účast na krosech a atletických závode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 těch vyspělejších je možno přecházet i na mapy se sníženým počtem informací /ve vhodném terénu např.vrstevnicové mapy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3F0-6A16-4D7B-A642-5EF73058EE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9A12B-B596-43ED-BA2B-FE4BFCCD2A2F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r Weber</cp:lastModifiedBy>
  <dcterms:modified xsi:type="dcterms:W3CDTF">2007-12-07T05:19:33Z</dcterms:modified>
  <cp:revision>2</cp:revision>
  <dc:subject/>
  <dc:title>Prezentace aplikace PowerPoint</dc:title>
</cp:coreProperties>
</file>