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A6F23-4508-49B1-B1BB-5C393527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E58C-B995-435A-A485-99A99AB4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D114-0D66-41C2-8070-86D3D083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726D4-2FA3-41BE-859B-329A8560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D240-A78F-4C7A-9DD4-DC1E1431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2102-682D-4BFD-A84D-E70C03EA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C096-277F-491D-B46E-F11E7A43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B5F6-9BBF-44F9-9AF8-1847B58F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4223-4A22-48FB-B24D-AEAA4C65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064B-1D4B-48C0-97C3-23BA02C4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9583-4043-40B5-B15B-9DEF79CF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31269-C0E6-4C01-BECD-5A47E552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E579-DB89-48D5-9876-D08EE144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F3D2-C88F-48F0-ABEE-2BF1CBA5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64D9-C12F-4378-8C5A-4B2A14E1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274E-768D-4731-99DA-3D97F684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C32E-00EA-422D-BD88-B527C138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F5434-76DF-467D-87F9-965654C8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02213-2139-4F67-99D4-8F836E91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A3233-C24A-45A1-86EE-B9000655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4234A-8671-4EB3-9DC0-7C3E06ED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4AABC-2FE3-44BF-968D-A9147C2F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3090-3ECA-4211-BC97-890C3BC8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84B61-F23B-408E-80AD-F37EFCEE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B2DC-D9D1-45F5-874A-2795B13BB4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F7C0-5766-4968-B65D-470DA13CFE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rganizace táborů pro žactvo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nka Klimpl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dení družstev na letních táborech se zaměřením na 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dělení účastníků tábora do družstev dle věku a zkušeností s 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4 členů ve družstvu, ideální sudý 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dení družstev dětí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ladšího školního věk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ní princ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ce - dva hlavní úkoly motivace ve sportovní přípravě dětí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žitkové – zažít legraci, hrát si, zažít něco, na co budu rád vzpomí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ýt úspěšný – moci srovnávat své síly a dovednosti s ostatními, umět něco, co ostatní nedokáž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ientační tréninky pro nejmenší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6 až 8 l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stování znalostí a orientačních schopností jednotlivých dě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cházka s map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vězdice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vou až tří kontrolové okruhy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asická trať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rientační tréninky pro starší děti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(9 až 11 let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věz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měťové hvěz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kru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lasická trať (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oukolový s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 s hromadným startem (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orela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měťový scorela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udá-lich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dení družstev dětí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ršího školního věk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 hry k pov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lídat životosprávu (ponocování, konzumace alkohol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íše demokratický styl ved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tazníček před začátkem táb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use před tréninky - vysvětlení cíle a smyslu tréninku, možné tak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 tréninku rozbor postupů a c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ová nápl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 děti staršího školního věk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kru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měťová sudá-lich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énink na vrstevnicové mapě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ga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voukolový s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měťový scorel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cká trať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kalní sprinty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védské přeběhy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ční 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zimuty = azimutové postupy na záchytnou linii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TB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gaining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káz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připravit úspěšný o-táb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érský přístup a styly vedení u jednotlivých věkových kategor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dení družstev na letních táborech se zaměřením na 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edení družstev mladšího školního vě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aršího školního vě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k připravit úspěšný o-táb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povídající provozní záze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ální zabezpe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ová nápl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érský přístup a styly veden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liší trenérský přístup u dětí mladšího školního věku (6 až 11 let) a dětí staršího školního věku (12 až 15 le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érský přístup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 mladším školním vě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ní princ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pnost koncentrace omezena – činnost musí být pestrá a obměňova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jímání názorů druhých, dospělí autoritou – trenér by měl působit vlastním příkla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érský přístup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 mladším školním věku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ér by měl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ůsobit na usměrnění spontánních pohybových aktivit k systematické pohybové přípra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víjet koncentraci, posilovat vůli, formovat vlastnosti osobnosti, kolektivní cítění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důrazňovat také správnou životosprávu, hygienu a celkový denní rež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érský přístup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 starším školním vě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tní a diskrétní přís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ré řešit větší přestupky s určitým časovým odstup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hýbat se ironii, nevystupovat příliš autoritativ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ér spíše starším a zkušenějším přítelem, otevřeným a chápajíc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érský přístup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 starším školním věku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tváří se vztah k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por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jen jako ke hře, ale i „k určité činnosti, která se stává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vinnost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edevším tehdy, chce-li talentovaný jedinec v budoucnosti dosáhnout úspěchů“ (Perič,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enér by měl upevňovat zájem o sport, zajímat o životosprávu a denní režim svých svěřenců a vést je k lepšímu využívání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dividualiz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enérské styly ved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 jednání s druhými lidm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utoritati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krati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berál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3:37:21Z</dcterms:created>
  <dc:creator>Lenka</dc:creator>
  <dc:description/>
  <dc:language>en-US</dc:language>
  <cp:lastModifiedBy>Lenka</cp:lastModifiedBy>
  <dcterms:modified xsi:type="dcterms:W3CDTF">2007-12-08T17:20:53Z</dcterms:modified>
  <cp:revision>11</cp:revision>
  <dc:subject/>
  <dc:title>Organizace táborů pro žactvo</dc:title>
</cp:coreProperties>
</file>