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1F1-B76E-40E0-B9D5-A624A787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4D9-23B7-4A69-B9AF-865AF7EE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E9D6-E9BF-4C16-9E24-D51F36F6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943-CC7D-4B20-88B5-9B41E5DC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622-E3BA-4BA7-9EFA-200B9637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752-45DC-48F7-A149-35A0F132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A0AB-25F4-4D7B-8C1F-DAD24A1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C1E-AEDF-4361-9B49-A87E4118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BDA-DCAA-42B4-852F-26291589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CA2-0D8F-4F08-B978-8C32DCF0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E5AD-FE3A-49F4-845B-0D1AA85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4C3F-1DF0-4384-9B4D-928728D0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3C64-74FC-4E00-80D3-6ADD8A958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Vidnava_2%20kol%20sprint.xls" TargetMode="External"/><Relationship Id="rId3" Type="http://schemas.openxmlformats.org/officeDocument/2006/relationships/hyperlink" Target="file:///Vidnava_2%20kol%20sprint.xls" TargetMode="External"/><Relationship Id="rId4" Type="http://schemas.openxmlformats.org/officeDocument/2006/relationships/hyperlink" Target="file:///Vidnava_2%20kol%20sprint.xls" TargetMode="External"/><Relationship Id="rId5" Type="http://schemas.openxmlformats.org/officeDocument/2006/relationships/hyperlink" Target="file:///M%20&#268;R%20KLAS%202006_pokyny%20pro%20kluky.doc" TargetMode="External"/><Relationship Id="rId6" Type="http://schemas.openxmlformats.org/officeDocument/2006/relationships/hyperlink" Target="file:///M%20&#268;R%20KLAS%202006_pokyny%20pro%20kluky.doc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&#225;ztoka.jpg" TargetMode="External"/><Relationship Id="rId3" Type="http://schemas.openxmlformats.org/officeDocument/2006/relationships/hyperlink" Target="file:///R&#225;ztoka.jpg" TargetMode="External"/><Relationship Id="rId4" Type="http://schemas.openxmlformats.org/officeDocument/2006/relationships/hyperlink" Target="file:///R&#225;ztoka.jpg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oust&#345;ed&#283;n&#237;%20Rynoltice_&#269;tvrtek_2_F.OOR" TargetMode="External"/><Relationship Id="rId3" Type="http://schemas.openxmlformats.org/officeDocument/2006/relationships/hyperlink" Target="file:///Soust&#345;ed&#283;n&#237;%20Rynoltice_&#269;tvrtek_2_F.OOR" TargetMode="External"/><Relationship Id="rId4" Type="http://schemas.openxmlformats.org/officeDocument/2006/relationships/hyperlink" Target="file:///Soust&#345;ed&#283;n&#237;%20Rynoltice_&#269;tvrtek_2_F.OOR" TargetMode="External"/><Relationship Id="rId5" Type="http://schemas.openxmlformats.org/officeDocument/2006/relationships/hyperlink" Target="file:///Soust&#345;ed&#283;n&#237;%20Rynoltice_&#269;tvrtek_1_F.OOR" TargetMode="External"/><Relationship Id="rId6" Type="http://schemas.openxmlformats.org/officeDocument/2006/relationships/hyperlink" Target="file:///Soust&#345;ed&#283;n&#237;%20Rynoltice_&#269;tvrtek_1_F.OOR" TargetMode="External"/><Relationship Id="rId7" Type="http://schemas.openxmlformats.org/officeDocument/2006/relationships/hyperlink" Target="file:///Soust&#345;ed&#283;n&#237;%20Rynoltice_&#269;tvrtek_1_F.OOR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oust&#345;ed&#283;n&#237;_Doksy_2007_&#269;tvrtek.OOR" TargetMode="External"/><Relationship Id="rId3" Type="http://schemas.openxmlformats.org/officeDocument/2006/relationships/hyperlink" Target="file:///Vidnava_So_1.OOR" TargetMode="External"/><Relationship Id="rId4" Type="http://schemas.openxmlformats.org/officeDocument/2006/relationships/hyperlink" Target="file:///Vidnava_So_1.OOR" TargetMode="External"/><Relationship Id="rId5" Type="http://schemas.openxmlformats.org/officeDocument/2006/relationships/hyperlink" Target="file:///Soust&#345;ed&#283;n&#237;%20_Rynoltice_st&#345;eda.OOR" TargetMode="External"/><Relationship Id="rId6" Type="http://schemas.openxmlformats.org/officeDocument/2006/relationships/hyperlink" Target="file:///Soust&#345;ed&#283;n&#237;%20_Rynoltice_st&#345;eda.OOR" TargetMode="External"/><Relationship Id="rId7" Type="http://schemas.openxmlformats.org/officeDocument/2006/relationships/hyperlink" Target="file:///Soust&#345;ed&#283;n&#237;%20_Rynoltice_st&#345;eda.OOR" TargetMode="External"/><Relationship Id="rId8" Type="http://schemas.openxmlformats.org/officeDocument/2006/relationships/hyperlink" Target="file:///Soust&#345;ed&#283;n&#237;%20Rusava_Ne_odp.OOR" TargetMode="External"/><Relationship Id="rId9" Type="http://schemas.openxmlformats.org/officeDocument/2006/relationships/hyperlink" Target="file:///Soust&#345;ed&#283;n&#237;%20Rusava_Ne_odp.OOR" TargetMode="External"/><Relationship Id="rId10" Type="http://schemas.openxmlformats.org/officeDocument/2006/relationships/hyperlink" Target="file:///Soust&#345;ed&#283;n&#237;%20Rusava_Ne_odp.OOR" TargetMode="Externa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Soustředění – cíl, plánování, rozdíly podle období tréninkového roku, „cílování“ soustředění na konkrétní závod, výstupy pro trenéra a jejich využití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Školení trenérů  3.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radec Králov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. - 9. 12.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Výstupy ze soustředě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íčové chy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nava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_2 kol sprint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x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líčová „sdělení“ soustře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ýstup pro závod, k němuž bylo soustředění „cílováno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 ČR KLAS 2006_pokyny pro kluky.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96A9-77C4-4C3F-8FDA-3D48239D750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íky moc za pozornos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nad Vám dnešní povídání něco málo dal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B79-08E2-4F5C-B822-8783461AF0F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íle soustředě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ánování soustře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ůběh soustře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uhy trénin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ýstupy ze soustředění (pro trenéra i závodní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F82-42D3-44CA-93D4-321712618A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íle soustředě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zivní mapová příprava, na kterou jindy v průběhu tréninkového roku není časový pro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 NE-domácích terénech + naopak terény „šité na míru“ budoucím důležitým závodům (jejich zaži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 časovým prostorem pro daleko detailnější rozbor tréninku mezi trenérem a závodníkem, než jindy v průběhu tréninkového rok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vodníci i trenéři koncentrovaní pouze na „obsah soustředění“ – nerozptylování se jinými vlivy (práce, rodina, kamarádi, škola,…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4BC-66D8-495A-9705-2873E9F813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lánování soustředě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 výkonnostních závodníků dorosteneckého věku výše nes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ýt soustředění realizováno nahodile, 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opak pouz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o důkladném plánován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příprav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Obsah a místo soustředění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ždy nutné přizpůsobit dané fá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ávodního nebo tréninkového cyklu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oustředění, které svou podsta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nesměřuje k určitému př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tanovenému cíli, nemá smysl 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7A2-40B5-4516-95C9-076E9C6663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lánování soustředě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ákladní typické „české“ členě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Zimní mapová soustředění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České republice (jižní Morava – např. Bzen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 teple v zahraničí (Francie, Slovinsk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Velikon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íky stále častějším zimním mapovým přípravám již přestává plnit funkci prvního pořádného střetu závodníka s mapou v daném tréninkovém ro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Začátek květn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dící soustředění před 1. vrcholem sezóny**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Červe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louhodobé tréninkové pobyty v zahraniční (repre zájezdy at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omácí (OB – tábory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Konec srp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dící soustředění před 2. vrcholem sezóny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*** Pozn.: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POZOR – trenér musí se zvýšenou opatrností sledovat veškeré reakce závodníků na tréninkové podněty; hrozí nebezpečí „utavení“ před vrcholem sezóny. Vlastní zkušenost z roku 2000 a z roku 2007 (ladící soustředění Ostrov u Tisé, resp. Vidnava)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23BD-AA3A-4DF2-A29D-2483557146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lánování soustředěn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KD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začít mapové soustředění připravovat – nejméně cca 3 – 4 měsíce před datem jeho konání; zahraniční soustředění ještě dříve (důvody viz dál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Jak vybrat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MÍSTO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pro soustředě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dle druhu terénu v konkrétním závodě, k němuž je soustředění „cílováno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dle převládajícího druhu terénu ve vrcholových závodech nebo terénu, který bude mezi vrcholovými závody něčím specifický,vybrat v České republice (nebo v blízkém zahraničí – viz příklad dále – Rynoltice – přejezd do „žitavských skal“ v Německu) místo s terény co možná nejpodobnější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říklady, snad úspěšného, „cílování“ soustředění ke konkrétnímu závod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Př. 1: soustředění Rynoltice – MČR KLAS 2006 (Střezivojice) – H 16 – </a:t>
            </a:r>
            <a:r>
              <a:rPr b="1" i="1" lang="cs-CZ" sz="1200" spc="-1" strike="noStrike">
                <a:solidFill>
                  <a:srgbClr val="0000ff"/>
                </a:solidFill>
                <a:latin typeface="Arial"/>
              </a:rPr>
              <a:t>2. Klapal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, 5. Nož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Př. 2: soustředění Rusava – MČR KLAS 2007 (Vizovice) – H16 – </a:t>
            </a:r>
            <a:r>
              <a:rPr b="1" i="1" lang="cs-CZ" sz="1200" spc="-1" strike="noStrike">
                <a:solidFill>
                  <a:srgbClr val="0000ff"/>
                </a:solidFill>
                <a:latin typeface="Arial"/>
              </a:rPr>
              <a:t>2. Bořil</a:t>
            </a: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, 5. Procház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e zvoleném místě musí být k dispozici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dostate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kvalitních a ne starých orienťáckých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map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POZOR!!!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– Zvolený prostor k tréninku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nesmí být zakázaným prostore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některého závod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e zvoleném místě nalézt vhodné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ubytování a strav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a jeho provozovatele zkontaktovat. To je pro jarní soustředění (velikonoce + květen) důležité udělat již v zimě – vhodných tréninkových lokalit v české republice zase tolik není a mezi oddíly je o ně poměrně velký zájem. Dobré je mít na paměti i cenovou dostupnost ubytování a stravová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e zvoleném místě zkontaktovat nejbližší orienťácký oddíl, zjistit správce mapy a dohodnout se s ním na získání map.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Preferovat OCAD soub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možní Vám přípravu „tréninků na míru“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šetří Vám spoustu času na samotném soustředění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umožní rozbory tréninků promítané dataprojektorem ve „velkém obraze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ca 1 měsíc před soustředěním je dobré 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rozplánovat využití map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, které jsou na soustředění k dispozici, na jednotlivé tréninky tak, a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 prostory tréninků co nejméně překrýva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yly využity pokud možno celé plochy map, které jsou k dispozic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yly využity ty skutečně nejzajímavější pasáže map, které jsou k dispozic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byl každý trénink dostupný jak pro závodníky tak pro trenéry – roznašeče kontrol z místa ubytování podle toho, jaké prostředky jsou na soustředění k dispozici (pouze vlastní nohy, autobus, osobní auta)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áztoka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5CA-016B-41D6-B9F3-92D144DA05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soustředění</a:t>
            </a:r>
            <a:br>
              <a:rPr sz="44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Jsou to o</a:t>
            </a: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becné Karlosovy zásady:</a:t>
            </a:r>
            <a:br>
              <a:rPr sz="1000"/>
            </a:b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 Nejsou zcela jistě nejlepší a bezchybné (každý jiný trenér určitě vyznává své vlastní zásady).</a:t>
            </a:r>
            <a:br>
              <a:rPr sz="1000"/>
            </a:b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cs-CZ" sz="1000" spc="-1" strike="noStrike">
                <a:solidFill>
                  <a:srgbClr val="000000"/>
                </a:solidFill>
                <a:latin typeface="Arial"/>
              </a:rPr>
              <a:t> Nejsou obecně přenositelné do jiných tréninkových prostředí (jiný oddíl, reprezentace apod.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Na prvním místě je </a:t>
            </a: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bezpodmínečná disciplína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závodníků na ladícím soustředění (večerka, alkohol atd.) a proti ni postavená </a:t>
            </a: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zásada co nejlepších podmínek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poskytnutých závodníkům (ubytování na postelích, zajištěná celodenní strava, teplé sprchy atd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zájemný </a:t>
            </a: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respekt mezi oddílovými a reprezentačními akcemi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právně zvolená a dobře připravená reprezentační akce může závodníkovi ze všech hledisek – kvalita tréninků, kvalita tréninkových soupeřů, finanční náročnost atd. – přinést více než oddílové soustředě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„zbytečná“ reprezentační akce typu „Spring Cup“ nesahá kvalitnímu klubovému soustředění ani po kotníky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ůležitý je </a:t>
            </a: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skutečný cíl každého jednotlivého mapového tréninku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na soustředění – nestačí pouhé libovolné roznesení kontrol po l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Každý jednotlivý trénink se snažte začít alespoň stručným „úvodním slovem“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kladní parametry trénink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apa – měřítko, ekvidistance, tisk z PC nebo „plnohodnotná mapa“, plnobarevná či s omezeným množstvím informací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délka, převýšení, počet kontrol, občerstvení – A/N a kd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ybavení kontrol – lampionky (velikost), kleštičky, Emit, Sport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základní charakteristika terénu – druh lesa (listnatý/jehličnatý/smíšený), běžecký podklad, porosty a podrost, terénní členit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co od tréninku jako trenér očekává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na jakou mapovou techniku je trénink zaměř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ři stavbě mapového tréninku </a:t>
            </a: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zapomeňte na teoretická pravidla stavby závodních trat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pro orientační běh (zákaz ostrých úhlů; zákaz vraceček atd.) – řiďte se pouze účelem a cílem trénin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Měření časů všech trénink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– preferuji Emit (technická a provozní nenáročnost); pokud není k dispozici, pak alespoň ruční měřen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Přísný a nekompromisní výběr účastník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výkonnostních mapových soustředění (kdo nemá potřebnou výkonnost, nemá na takovém soustředění co dělat), naproti tomu ale neuzavírejte tato soustředění novým dorůstajícím závodníkům. Jinak hrozí ztráta motivace ostatní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naha o každodenní </a:t>
            </a: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důkladný rozbor všech trénink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(realita - ne vždy to časově vyjd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5F3-E1E0-4E9F-B8D9-9801EB083B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ruhy trénink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2-kolový s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na ladících soustředěních o délce maximálně cca 2 x 2.0 - 2.5 k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střídání krátkých technických postupů s delšími běžeckými, střídání porostů, střídání rovinatých a kopcovitých pasáží, možné časté kříž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oba okruhy jsou v rámci jedné tréninkové fáz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start do 2. kola preferuji handicapový – nikdy pouze prostý součet čas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nejlépe (ale ne vždy jsou na to možnosti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 algn="just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se dvěmi různými charaktery terén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 algn="just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se dvěmi různými měřítky mapy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 algn="just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s různou mapou (např. plnohodnotná + vrstevnicovka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důležité je dobré oblečení závodníků (na startu se čeká) a pit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Jednokolový s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délka cca 2.5 – 4.0 k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poměrně velké množství kontrol (průměrná délka postupu 200 – 250 m) proložené minimálně 2 delšími postupy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Okru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nejčastěji 4 okruhy o délce 0.8 – 1.5 k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důležité jsou „schované“, resp. naprosto přesně dle popisu postavené, „nesvítící“, kontroly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důležité je opět dobré oblečení závodníků (na startu se čeká) a pit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ustředění 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ynoltice</a:t>
            </a:r>
            <a:r>
              <a:rPr b="0" lang="cs-CZ" sz="11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_čtvrtek_2_F.O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just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Měřené postu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4 – 8 postupů o celkové délce do 6 – 7 km (na délce jednoho postupu nezáleží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každý postup musí nabízet minimálně 3 relevantní varianty postup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3 subvarianty trén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 algn="just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závodník má postup předem určen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 algn="just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závodník si svůj postup volí, ale z předem jasně stanovených variant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316520" indent="-438840" algn="just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závodník si svůj postup volí zcela libovoln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kontroly musí být naopak postaveny „svítivě“ a viditelně, aby časy pro porovnání jednotlivých variant postupu nebyly nijak ovlivněny náročnou dohledávkou kontroly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trénink se zdá nudný, ale je  </a:t>
            </a:r>
            <a:r>
              <a:rPr b="1" lang="cs-CZ" sz="1200" spc="-1" strike="noStrike" u="sng">
                <a:solidFill>
                  <a:srgbClr val="0000ff"/>
                </a:solidFill>
                <a:uFillTx/>
                <a:latin typeface="Arial"/>
              </a:rPr>
              <a:t>velmi účinný pro nácvik, pochopení a zažití si některých orientačních technik</a:t>
            </a:r>
            <a:r>
              <a:rPr b="1" lang="cs-CZ" sz="1200" spc="-1" strike="noStrike">
                <a:solidFill>
                  <a:srgbClr val="0000ff"/>
                </a:solidFill>
                <a:latin typeface="Arial"/>
              </a:rPr>
              <a:t> – výhodnost či nevýhodnost obíhaček, traverzy apod. – doporučuji několikeré opakovaní postupů v rámci jedné fáze.     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ustředění 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ynoltice</a:t>
            </a:r>
            <a:r>
              <a:rPr b="0" lang="cs-CZ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_čtvrtek_1_F.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676-9D2C-448B-9C02-6DB40C9E1A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ruhy trénink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Zhustovy“ souboje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ustředění_Doksy_2007_čtvrtek.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rénink ve skupinách 4 – 5 rovnocenných závodníků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2 místa startu a současně cíle vzdálená cca 1.0 – 1.5 km od sebe spojená tolika variantami rovnocenných postupů, kolik je závodníků v jedné skupině, na jednom postupu cca 3 – 4 kontrol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ávodníci ze skupiny postupně probíhají všechny varianty postupu mezi oběma místy (bez ohledu na směr postupu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závodníci ze skupiny vždy startují společně; ve druhém místě na sebe čekají; první, kdo tam doběhne získává nejvíce bodů, další pak o bod méně atd.; před startem do dalšího „průběhu“ si mezi sebou prohodí varianty postupů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lmi důležitá je volba terénu pro tento typ tréninku – nutný je plochý terén s minimálním množstvím komunikací, s velkým množstvím vrstevnicových nebo vegetačních detailů, bez rozsáhlých zarostlých pasek či hustník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Americké št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trénink dvoučlenných štafet (nejlépe chlapec – dívka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nejčastěji na 3 různých okruzích z jednoho místa star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 různými měřítky map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 různou mapou (např. plnohodnotná + vrstevnicovka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élka jednotlivých okruhů 1.5 – 2.0 k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třídavě v pořadí chlapec – děvče – chlapec – děvče – chlapec absolvují chlapec všechny 3 okruhy a děvče 2 ze 3 okruhů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Middle s hromadným startem + s farstovanými některými kontrolami + s motýlky na tr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simuluje kontaktní typy závodů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obvykle používáme farstovanou pouze 1. kontrolu + 2 – 3 motýlky (dle délky tréninku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élka 4 – 5 k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yžaduje terén s velkým množstvím bodových objektů; bohatství porostů není na závadu (umožňuje „utržení“ soupeř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idnava</a:t>
            </a: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_So_1.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One man relay – závod s hromadným startem s uzlem v místě startu a cíle na více okruzí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opět simuluje kontaktní typy závodů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obvykle používáme 3-okruhovou variantu s délkou jednotlivých okruhů cca 1.0 – 1.5 k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hodné jako první trénink na soustředěních začínajících odpoledne s nedostatkem času na přípravu většího tréninku (kontroly v jednom prostoru zrychlují roznos; hromadný start zkracuje délku samotného tréninku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ustředění _</a:t>
            </a: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ynoltice</a:t>
            </a: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_středa.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Soustředění </a:t>
            </a: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usava</a:t>
            </a:r>
            <a:r>
              <a:rPr b="0" lang="cs-CZ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Ne_odp.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Middle s intervalovým startem (bez farst a bez motýlků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incipy shodné s ad g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1" lang="cs-CZ" sz="1000" spc="-1" strike="noStrike">
                <a:solidFill>
                  <a:srgbClr val="0000ff"/>
                </a:solidFill>
                <a:latin typeface="Arial"/>
              </a:rPr>
              <a:t>Brutální“ klasik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yužívám pouze ve fyzicky hodně náročných terénech – velké kopce, skály atd.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osiluje psychickou odolnost závodníků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i pro dorostence postaveno na čas vítěze 80 – 100 min.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nezapomenout na občerstvovačku(y)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931-8E5D-4CD8-B607-34631C117F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8:02:59Z</dcterms:created>
  <dc:creator>Mgr. Karel Haas</dc:creator>
  <dc:description/>
  <dc:language>en-US</dc:language>
  <cp:lastModifiedBy>Karel Haas</cp:lastModifiedBy>
  <dcterms:modified xsi:type="dcterms:W3CDTF">2007-12-09T00:27:53Z</dcterms:modified>
  <cp:revision>92</cp:revision>
  <dc:subject/>
  <dc:title>Orientační běh a životní prostředí – aktuální informace</dc:title>
</cp:coreProperties>
</file>