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B30-0EE1-4589-AE2E-10221E0E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D08-4D5D-453B-8EAD-DC411424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B46-A8AC-43D6-B6CE-53FFE5D4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319-B1BD-485F-B329-F9AC3E15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162-1F89-430D-AF2A-6941EC7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946-A196-4343-8650-3A20B171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068-B4C7-4AF7-8991-3B2D72A3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2E9-73B7-45FD-B610-47CB230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AEB-A790-4D4F-B5AB-8AD1E833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4AF-C896-4FB5-92B5-E99D4C7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0F3-7DD0-4FD5-A302-2E114A8D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171-F694-4183-993F-75AE7BAF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8F3D-A75D-45A8-9A5D-364EE602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Prezentace_1%5B1%5D.%20MiniS_12_2006.ppt" TargetMode="External"/><Relationship Id="rId3" Type="http://schemas.openxmlformats.org/officeDocument/2006/relationships/hyperlink" Target="file:///Prezentace_1%5B1%5D.%20MiniS_12_2006.ppt" TargetMode="External"/><Relationship Id="rId4" Type="http://schemas.openxmlformats.org/officeDocument/2006/relationships/hyperlink" Target="file:///Prezentace_1%5B1%5D.%20MiniS_12_2006.ppt" TargetMode="External"/><Relationship Id="rId5" Type="http://schemas.openxmlformats.org/officeDocument/2006/relationships/hyperlink" Target="file:///Prezentace_1%5B1%5D.%20MiniS_12_2006.ppt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ocni%20plan%202006%20-%202007.doc" TargetMode="External"/><Relationship Id="rId3" Type="http://schemas.openxmlformats.org/officeDocument/2006/relationships/hyperlink" Target="file:///Rocni%20plan%202006%20-%202007.doc" TargetMode="External"/><Relationship Id="rId4" Type="http://schemas.openxmlformats.org/officeDocument/2006/relationships/hyperlink" Target="file:///Rocni%20plan%202006%20-%202007.doc" TargetMode="External"/><Relationship Id="rId5" Type="http://schemas.openxmlformats.org/officeDocument/2006/relationships/hyperlink" Target="file:///Rocni%20plan%202006%20-%202007.doc" TargetMode="External"/><Relationship Id="rId6" Type="http://schemas.openxmlformats.org/officeDocument/2006/relationships/hyperlink" Target="file:///Rocni%20plan%202006%20-%202007.doc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ěžecký trénink výkonnostních závodníků dorostu v jednotlivých obdobích tréninkového        rok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Školení trenérů  3.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radec Králov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. - 9. 12.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Něco navíc – „motivační prezentace“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íkendová „minisoustředěn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otivační / taktické /technické „večery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zentace_1[1].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ni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_12_2006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C79B-E7D3-4116-B119-221ABAAC68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íky moc za pozornos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nad Vám dnešní povídání něco málo dal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4740-48F3-4D5D-85E7-D89371A1BB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ční tréninkový plá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dnotlivé cykly tréninkového roku – zaměření + konkrétní ukázka tréninkového plá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ěco navíc – „motivační prezentac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869-0BA8-43F1-BC9A-E944C38358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nkrétní ukáz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(LPU – H16/2 + H18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ocn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la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2006 - 2007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oční tréninkový pl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2B5-98B8-4F5E-901D-6A9278D43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. – 2. cykl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ca listopad – Váno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1. cyklu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Rozběhání; dostání se do pravidelného tréninkového reži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0´souvislý běh volně (1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5´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řídačka 23´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1´(2), 1´(1), 1´(2), 2´(1), 1´(2), 3´(1), 1´(2), 4´(1), 1´(2), 3´(1), 1´(2), 2´(1), 1´(2), 1´(1)); 5´V – celý trénink jít pouze po rovině (ne v terénu, ne v kopcích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Č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0´souvislý běh volně (1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 vloženými 10 x 10´´ svižně (2); 5´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lokan kros v HK nebo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louhé tempové úse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0´ tempově (2); 4´pauza (chůze, vyklepání atd.); 10´ tempově (2); 5´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rátké tempové úse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 x 1´(3), 2 x 2´(3), 1 x 3´(3), 2 x 2´(3), 3 x 1´(3); mezi sériemi 3´MK; pauzy mezi jednotlivými úseky v sérii 1:1 s během (tzn. v sérii 1-minutovek pauzy 1´, v sérii 2-minutovek pauza 2´, po 3-minutovce pauza 3´); 5´V – celý trénink jít pouze po rovině(ne v terénu, ne v kopcích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Arial"/>
              </a:rPr>
              <a:t>2. cyklus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= Pravidelný tréninkový režim; pomalé zvyšování objemu i intenzity trénin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61E-E2C4-4092-902D-AF78490443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 – 5. cyklu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ca Vánoce – polovina břez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ff"/>
                </a:solidFill>
                <a:latin typeface="Arial"/>
              </a:rPr>
              <a:t>3. – 5. cyklus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= Objem + tempo + síla + střídačk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 R; ROZ, velmi lehká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řídačka 20´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30´´(2), 90´´(1)); 5´ 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 R, ROZ; poměrně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ehké tempov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ne pyramida, spíše takové velbloudí hrby)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úse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´(2), 2´pauza, 2´(2), 2´pauza, 3´(2), 4´pauza, 2´(2), 2´pauza, 1´(2), 2´pauza, 2´(2), 2´pauza, 1´(2); 5´V – trénink jít po cestách a po rovině; ne žádným bahnem nebo břečkou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30´souvislý běh volně (1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5´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Č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olno – cesta na soustředě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F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map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rať s parametry cca 9 – 10 k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pouze 7 – 9 k (tzn. průměr na postup přes 1 km); pokud to půjde, tak dlouhé lehké postupy, ale nabízející alespoň dvě, klidně cestové, volby – hodně „běžecké“; intervalový start – mezi kluky z naší skupiny interval nejméně 5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. F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bez ma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mbinace volného běhu + síl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najít v okolí rovinatý okruh po cestě v délce cca 1 km takový, aby se z něj na jednom místě mohl někam „do boku“ chodit výběh kopce o délce 50 – 70 m s převýšením cca 10 – 15 m; 5´R; ROZ; 1 km souvislý běh po rovině volně (1); po doběhu 1´pauza; 5 x výběh kopce (3), dolů MK a hned nahoru, po posledním seběhu 2´pauza; 1 km souvislý běh po rovině volně (1); po doběhu 1´pauza; 5 x odpichy do kopce, dolů MK a hned nahoru, po posledním seběhu 2´pauza; 1 km souvislý běh po rovině volně (1); po doběhu 1´pauza; 3 x výběh kopce (3), dolů MK a hned nahoru, po posledním seběhu 1´pauza; 1 km souvislý běh po rovině volně (1); po doběhu 1´pauza; 3 x odpichy do kopce, dolů MK a hned nahoru, po posledním seběhu 1´pauza; 5´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F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map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rať s parametry cca 5 k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/na prvních 4 km pouze 3 – 4 k (opět průměr na postup přes 1 km; oproti páteční 1. F. mohou být postupy více terénem) + na posledním kilometru cca 5 – 6 k, tzn. velmi krátké postupy; alespoň pro kluky z naší skupiny handicapový start se ztrátami z páteční 1. 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2. F.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bez ma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vislý běh velmi volně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o cestách 25´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1. F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Arial"/>
              </a:rPr>
              <a:t>bez ma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řídačka 30´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o cestách (5´(1), 5´(2)); 5´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38F8-2035-41D0-8BE1-956F6E476D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. – 7. cyklu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ca polovina března – začátek květ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6. cyklu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Tempo + tempové intervaly + krátké rychlostní interva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dubičtí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apový trénin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oudný – po tréninku na polní cestě od startu velmi mírně z kopce 3 x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4 x 50 m (2 – 3) vyběhávaně, tzv.  „na styl“; starty po 1´; mezi sériemi 1´ pauza; 2´MK; 1´pauza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5´V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imopardubičtí – 5´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ouvislý tempový běh 25´(2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po doběhu 5´pauza; pak velmi mírně z kopce 3 x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4 x 50 m (2 – 3) vyběhávaně, tzv.  „na styl“; starty po 1´; mezi sériemi 1´ pauza; 2´MK; 1´pauza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5´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t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elativně lehký trénink před čtvrteční dráhou – 5´ R; ROZ;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řídačka 30´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vních 10´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´´(2), 90´´(1)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druhých 10´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0´´ (2), 100´´ (1)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posledních 10´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´´ (2), 50´´ (1)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5´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Čt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testy SCM na dráz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 Pardubicích (sraz 17:00; tartan Městského atletického stadionu na Duk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áročné krátké intervaly se zkracovanou pauzo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mezi úseky v jednotlivých sériích – 5´R; ROZ; 3 x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5 x 200m (3), pauzy mezi jednotlivými úseky v sérii 120´´ - 90´´ - 60´´ - 40´´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; mezi sériemi 2´pauza (chůze, vyklepávání), 2´MK, 2´pauza; 5´V; celý trénink jít pokud možno po rovině, ne terénem, ale naopak po rovném a příjemném podkladu (pěšiny, tartan at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ff"/>
                </a:solidFill>
                <a:latin typeface="Arial"/>
              </a:rPr>
              <a:t>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řední tempové úse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5´R; ROZ; 7 x 3´(2), starty po 4´; 5´V; celý trénink jít pokud možno po rovině, ne terénem, ale naopak po rovném a příjemném podkladu (pěšiny, tartan at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7. cyklu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Tempo + krátké rychlostní intervaly + směřování k prvnímu vrcholu sezó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2000" spc="-1" strike="noStrike" u="sng">
                <a:solidFill>
                  <a:srgbClr val="0000ff"/>
                </a:solidFill>
                <a:uFillTx/>
                <a:latin typeface="Arial"/>
              </a:rPr>
              <a:t>ladění formy – min. 2 týdny před vrcholem!!!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1F1-7658-4E81-8FE3-07F879CD05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. – 9. cyklu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ca začátek května – konec června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8. cyklu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První vrchol sezóny, tzn. pouze ladění + udržování form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pardubičtí –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mapový trénink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Rabštejn (na mapák nyní jeďte – je to pěkný les na získání pohody před žebříčkem A); připravím Vám tratě dlouhé pouze cca 5 km; po doběhu mapáku 3´pauza; 2 x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  x 40´´ vyběhávaně „na pohodu“ (2) z mírného kopce; zpět vždy MK a 1´pauza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mezi sériemi 3´pauza; 5´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imopardubičtí – 5´R; ROZ;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25´souvislý běh volně (1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po doběhu 3´pauza; 2 x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3  x 40´´ vyběhávaně „na pohodu“ (2) z mírného kopce; zpět vždy MK a 1´pauza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mezi sériemi 3´pauza; 5´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ff"/>
                </a:solidFill>
                <a:latin typeface="Arial"/>
              </a:rPr>
              <a:t>S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5´R; ROZ; velmi krátká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střídačk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8´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1´(2), 1´(1), 2´(2), 2´(1), 3´(2), 3´(1), 2´(2), 2´(1), 1´(2), 1´(1)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; 5´V – shodný trénink půjdou úplně všich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ff"/>
                </a:solidFill>
                <a:latin typeface="Arial"/>
              </a:rPr>
              <a:t>Čt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předzávodní výkl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každý může jít podle svého „gusta“ – osobně doporučuji 5´R; velmi důkladné rozcvičení; 20´souvislý běh volně (1) s libovolně vloženými 6 x 20´´ (2-3); 5´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o, Ne - první letošní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závod žebříčku 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– věřím, že se nám letos podařilo výborně potrénovat i výborně vyladit a že budete mít všichni ze závodů, z výsledku i ze svého výkonu dobrý pocit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9. cyklu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= První vrchol sezóny, tzn. pouze ladění + udržování formy + poslední týden cyklu </a:t>
            </a:r>
            <a:r>
              <a:rPr b="1" lang="cs-CZ" sz="2000" spc="-1" strike="noStrike">
                <a:solidFill>
                  <a:srgbClr val="0000ff"/>
                </a:solidFill>
                <a:latin typeface="Arial"/>
              </a:rPr>
              <a:t>„pololetní“ odpočinek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 (1 týden zcela bez běhání!!!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669-D905-474C-982A-43C34A5B37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42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. – 11. cyklu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ca červenec – srp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ff"/>
                </a:solidFill>
                <a:latin typeface="Arial"/>
              </a:rPr>
              <a:t>10. cyklus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= Objem + tempo + síl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mbinace krátké + střední tempové interval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 (chůze, vyklepávání)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3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3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1´pauza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´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5´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5´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uvislý bě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olně (1); ne terénem; ne v kopcích; 5´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ol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Č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ilový trénink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 x 1´(2) do táhlého kop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dolů MK a dole 2´pauza (chůze + vyklepávání)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 x 50 m do táhlého kop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dký sprint (3) – skoky pravá noha – skoky levá noha – „poklesy“ na koleno – hladký sprint (3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dolů MK a dole 1´pauza (chůze + vyklepávání)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 x 1´(2) do táhlého kop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dolů MK a dole 2´pauza (chůze + vyklepávání)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5 x 50 m do táhlého kop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ladký sprint (3) – skoky pravá noha – skoky levá noha – „poklesy“ na koleno – hladký sprint (3)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dolů MK a dole 1´pauza (chůze + vyklepávání); 5´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45´souvislý bě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olně (1); ne terénem; ne v kopcích; 5´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3 x 8´ dlouhé tempové intervaly 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auzy mezi úseky 5´; 5´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N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75´souvislý běh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olně (1); ne terénem; ne v kopcích; 5´ V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ff"/>
                </a:solidFill>
                <a:latin typeface="Arial"/>
              </a:rPr>
              <a:t>11. cyklus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= Objem + tempo + síla + poslední dva týdny cyklu krátké rychlostní interval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CC6-168C-4696-A10D-29A12D3C10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. – 13. cyklu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cca září – říj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12. cyklu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= Druhý vrchol sezóny, tzn. pouze ladění + udržování for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Ú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mpové intervaly 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´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2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5´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4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´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3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5´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4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´(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5´V; trénink nemusí být na dráze – tentokrát doporučuji pěkné lesní pěšiny, ale rov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rátké intervaly (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 3 pyramidách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 x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00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1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0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2´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0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2´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00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auza 2´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00 m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mezi sériemi 3´pauza; 3´MK; 1´pauza; 5´V – opět platí, že tenhle trénink by jste měli jít, pokud to půjde, na dráze (např. tartan MAS); jinak alespoň po rovných pěkných pěšiná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Č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ol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P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5´R; ROZ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řídačka 23´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´(2), 1´(1), 1´(2), 2´(1), 1´(2), 3´(1), 1´(2), 4´(1), 1´(2), 3´(1), 1´(2), 2´(1), 1´(2), 1´(1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5 x 50 m vyběhávaně (2-3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starty po 1:30 min.; 5´V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Arial"/>
              </a:rPr>
              <a:t>So, 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Žebříček A krátká trať + klas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Arial"/>
              </a:rPr>
              <a:t>13. cyklu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= Odpočinek + bilancování sezón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OK Lokomotiva Pardub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51F-1225-423B-9AAA-55DEF763968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. 12. 2007</a:t>
            </a: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8:02:59Z</dcterms:created>
  <dc:creator>Mgr. Karel Haas</dc:creator>
  <dc:description/>
  <dc:language>en-US</dc:language>
  <cp:lastModifiedBy>Karel Haas</cp:lastModifiedBy>
  <dcterms:modified xsi:type="dcterms:W3CDTF">2007-12-09T00:22:41Z</dcterms:modified>
  <cp:revision>117</cp:revision>
  <dc:subject/>
  <dc:title>Orientační běh a životní prostředí – aktuální informace</dc:title>
</cp:coreProperties>
</file>