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97F-3F5A-4CD6-AF66-C1D79050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FD7-FB18-4948-9A05-DEE5918C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FAC-76D2-4CBC-A98F-AA831ACD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7A5-E8DF-4F6D-B889-302E7F9F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7D2-4F73-4E20-AD49-7632F637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53D6-192E-4513-A61E-0F5C91D2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FE1-1068-4C4A-BC74-0B8F7B93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3ED-1BD7-4D16-A870-5DB3A05B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FCD-B806-4C7A-8FEE-26FE5BDD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7D1-FC9E-4420-98AA-339AABB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A4E-9979-4F68-BF7D-1CCD1EE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DA8-1716-40B7-8F48-7A283514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0DAE-968B-4F77-9E46-F960789DD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Začínáme!!!</a:t>
            </a:r>
            <a:br>
              <a:rPr sz="4800"/>
            </a:b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otivace + vůle =  vítězstv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vní střípky, informace, fakt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dubické minisoustředění tréninkové skupiny ReKaP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6. – 17. 12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9 prostinkých myšlenek italského trenéra Francesca Conconiho I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tmus je rozhodujícím prvekmpro psychiku sportovce. Umožňuje totiž dostat se do transu, kdy sportovec necítí ani únavu ani bol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výkonů, které sportovci předvádějí, představuje asi 70 – 80% jejich maxima, protože podmínky nejsou nikdy ideál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maximální výkon se v závěrečné fázi mění ve výkon silový. Rozhoduje hrubá síla a odolnost. Proto je potřeba i v tréninku často pracovat na hranici vyčerpání, aby sportovec hrubou sílu a odolnost vyzkoušel a upevn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tí-li se sportovec zcela vyčerpán, zbývají mu v organismu ještě tři čtvrtiny 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5B9-FFEC-4527-9577-08C5117611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íky moc za pozornost. Snad Vám něco z těch dnešních „motivačních střípků“ utkví v hlavě a v srd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 tréninkové povídání na dalším pardubickém minisoustředění se tě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r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.S. Příště už to bude o konkrétních tréninkových nástroj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FCE5-7847-42BA-8173-9D4A94CFDD0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Cítí-li se sportovec zcela vyčerpán, zbývají mu v organismu ještě tři čtvrtiny sil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Francesco Conc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slo, kterým by jste se měli řídit celý svůj „sportovní“ živ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8D7-C068-44AD-8AA0-DE6E872134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Úspěch v orienťáku se dá shrnout prakticky do dvou sl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musím si vůbec uvědomit a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evně zafixova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že chci dělat (chci tvrdě trénovat, chci tvrdě závodit, chci být lepší než ostatní</a:t>
            </a:r>
            <a:r>
              <a:rPr b="1" lang="cs-CZ" sz="20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….) 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ledám vzory, studuji, jak to dělají jiní, vzdělávám se (platí to i pro orienťák), nenechám si svou motivaci nahlodat „slabochy“ (ať ve škole nebo ve spor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ů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ělám (tvrdě trénuji, tvrdě závodím, jsem lepší než ostatní, a hlavně – vydržím to dlouhou dobu) </a:t>
            </a: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rénuji tvrději a jinak</a:t>
            </a:r>
            <a:r>
              <a:rPr b="1" lang="cs-CZ" sz="20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ž ostatní, dobrovolně vyhledávám zátěžové situace (extrémní počasí, extrémní terény, extrémní tréninkové metody)</a:t>
            </a:r>
            <a:r>
              <a:rPr b="1" lang="cs-CZ" sz="20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jte se to o sobě říci; s pokorou k ostatním, ale na rovin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Nahoře“ zůstanete sami (ad Karlosův tréninkový vývoj od dorostenců k mužům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3)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edno z mých největších trenérských přání – abychom se nikdy nezměnili v „kecací + pomalu běhací“ skupinu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še ostatní – tréninkové nástroje (tempo, intervaly, vytrvalost, mapová technika) apod. – o čem se mluví jako o složkách výkonu v orientačním běhu, už jsou jen nástroje, kterými svou vůli realizuji!!! To už je jen taková třešnička na dor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6C5-1268-4E00-A5AC-7F8B47FAD4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915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ivace 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ent Olsson – S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83 (HUN) – 7. (K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87 (FRA) – 1. (K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89 (SWE) – 2. (K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91 (CZE) – 2. (KLAS), 2. (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k mezi 13 – 19 lety je velmi důležitý (hodně závodit = hodně zkušeností; od mala hodně tréninku v terénu, ne po cestách = přirozený rozvoj běžecké síly a koordinace; už od 12 – 13 let mapování; už od 15 let stavba tratí na závode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existují žádné zkratky na cestě k vrcholu – je tam jen pot, krev a slzy. Trénuji např. v bažinách nebo v kopc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valy a tvrdé tempo ve skupině s oddílovými kamarády jsou výborná příležitost, jak se trochu více zmáčkn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V něčem je s naší tréninkovou skupinou shoda, v něčem ne – ale pro inspiraci je důležitá pestrost názorů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BF0-743E-471B-9FEE-486C44FA70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ivace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gil Johansen – 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76 (GBR) – 1. (K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78 (NOR) – 1. (K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79 (FIN) – 2. (KL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istuje mnoho orientačních běžců, kteří trénují mnoho, ale bez ujasnění toho, co opravdu chtějí dosáhn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m, že běhám asi odpovídající množství. Nejsem nejvíce trénující Nor, kterým je Jan Fjaerestad, trénující 4 -5 hodin denně (viz ukázka tréninkového plánu – 435 km/ cca 34 hodin týdně, např. 71 km denně ve třech fáz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vyžaduje kladný přístup vedoucí k úspěchu 5 hodin tréninku denně??? Ne, to vyžaduje dívat se na věci rozumně a v proporcích. Musíte trénovat takové množství, které přináší nejlepší výsledky právě pro Vá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sažení relaxace a koncentrace za extrémního závodního stresu je známkou mistr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5A4-6E44-41FD-8DEB-4DBCEA7498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ivace I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réninková skupina Gavendových – CZE (zejména Jana Cieslarov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S 89 (SWE) – 17. (KL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S 91 (CZE) – 1. (KT), 4. (KL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S 93 (USA) – 13. (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S 95 (GER) – 7. (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olutní nesouhlas s trénováním „na dálku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říme v úspěšnou výchovu špiček kolektiv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o demokracie skloňují leniví sportovci, kteří se obávají, že je trénink bude bolet. Ve vrcholovém sportu platí jen a jen tvrdá práce; trenér musí být nekompromisní a přesto může a musí vzniknout mezi sportovcem a trenérem vztah plný důvě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 není trest!!! Sami závodnice považují testování za nutné; pochopily, že jim napomáhá k lepším výkonů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ě posilování – a to i dynamického v přírodě kombinovaného s běžeckým trénink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353-DA85-4FE0-A121-C57CFE5837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ůle I.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kázky to jsou většinou dost extrémní, ale jde o to na rovinu ukázat, že jste teprve na začátku dlouhé cest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ožo Pollák – náš nejlepší závodník konce 80. let – jeho kilometráž v letech 1988 a 19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6.493 km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21 dnů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31 fáz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6.954 km (+ 7,10%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39 dnů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61 fáz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an Fjaerestad – viz výše zmíněná ukázka tréninkového plánu – 435 km/ cca 34 hodin týdně, např. 71 km denně ve třech fází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Jana Cieslarová – „velké kilometry“ se dají ve zdraví běhat již od žákovského věku – její roční kilometráž v období D 14 – D 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14 (1985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250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15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530 km (+ 12,44%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16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907 km (+ 14,90%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17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100 km (+ 6,64%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Tréninková skupina Gavendových – dle našeho názoru je možné zvyšovat „km“ právě u mladších kategorií, kdy jde převážně o vytrvalostní trénink s nízkou intenzitou.</a:t>
            </a:r>
            <a:r>
              <a:rPr b="1" lang="cs-CZ" sz="1700" spc="-1" strike="noStrike" baseline="30000">
                <a:solidFill>
                  <a:srgbClr val="000000"/>
                </a:solidFill>
                <a:latin typeface="Arial"/>
              </a:rPr>
              <a:t>1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 tom se Gavendovi shodují s Conconim – velkou tréninkovou zátěž musejí zvládnout i děti, a to děti od 7 let. Průzkumy prokázaly, že to mohou dobře snášet a navíc se naučí velmi tvrdě pracova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baseline="30000">
                <a:solidFill>
                  <a:srgbClr val="0000ff"/>
                </a:solidFill>
                <a:latin typeface="Arial"/>
              </a:rPr>
              <a:t>1) </a:t>
            </a:r>
            <a:r>
              <a:rPr b="1" lang="cs-CZ" sz="1600" spc="-1" strike="noStrike">
                <a:solidFill>
                  <a:srgbClr val="0000ff"/>
                </a:solidFill>
                <a:latin typeface="Arial"/>
              </a:rPr>
              <a:t>Jana Cieslarová vydržela „ve zdraví“ v tvrdém tréninku 15 let (mezi roky 1985 a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266-952C-40B9-8748-0D2AD153DE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12 x 1 km naplno terénem;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8 x 1,5 km naplno dráha;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5 x 10 min. ostré tempo;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3 x 10 x 200 m naplno se starty po 1´(tzn. s odpočinkem necelých 30´´);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15 km souvislý běh se závažím;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výběhy 1 km do kopce ostré tempo (Kuňka: hospoda – brána); 6 x ,10´MK, 4 x, 10´MK, 2 x;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; ROZ; 4 x 8 min. ostré tempo bahnitou oranicí;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Vůle II.</a:t>
            </a:r>
            <a:br>
              <a:rPr sz="36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kázky Vám bližší – oblíbené Karlosovy tréninky z dob, kdy běh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6BC-581B-4E7A-8283-DAC895E528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9 prostinkých myšlenek italského trenéra Francesca Conconiho I.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ho test Vás čeká v tunelu v první polovině ledn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dy nic nedělejte pomalu. Všechno je ve sportu determinováno rychlostí. Síla, vytrvalost, obratnost jsou druhořadé fak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do chce něčeho dosáhnout, ať počítá s bolestivými tréninkovými metodami. Sebevětší objemy nemohou nahradit trénink, při němž se sportovec trápí a je mu na zvrac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výkonu se sčítá veškerá tréninková práce odvedená od nejútlejšího dětství až po dospěl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kou tréninkovou zátěž musejí zvládnout i děti, a to děti od 7 let. Průzkumy prokázaly, že to mohou dobře snášet a navíc se naučí velmi tvrdě prac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ějaký význam má práce pouze s velmi inteligentními sportovci. To je trochu složitější vztah. Totiž u většiny individuálních disciplín může k úspěchu dojít jen ten, kdo nalezne svůj optimální rytmus pohybu. Přirozený rytmus umožňuje šetřit energii organismu. Každé zrychlení nebo zpomalení člověka zbytečně vyčerpává. Hledání optimálního rytmu je ohromný boj; dokáže to jen velice inteligentní sportovec a to nejdříve po 10 letech prá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arel Haas, tréninková skupina ReKaP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90A-04D9-47F9-B715-5B7004B93B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6. 12. 2006</a:t>
            </a: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8:02:59Z</dcterms:created>
  <dc:creator>Mgr. Karel Haas</dc:creator>
  <dc:description/>
  <dc:language>en-US</dc:language>
  <cp:lastModifiedBy>Karel Haas</cp:lastModifiedBy>
  <dcterms:modified xsi:type="dcterms:W3CDTF">2007-12-08T22:43:28Z</dcterms:modified>
  <cp:revision>57</cp:revision>
  <dc:subject/>
  <dc:title>Orientační běh a životní prostředí – aktuální informace</dc:title>
</cp:coreProperties>
</file>